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36F-D903-418E-A56B-EC12D11E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026-6F07-45A4-9DFB-F45D7D8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715-7DC7-4131-A1F5-6B855067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753-2EF8-48DE-8595-B6E4A9ED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757-65EB-4248-8728-2410968D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616-DEA9-477A-BA26-ABD3ED62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C5E-89FE-4A79-9C63-44097EF6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C89-8A06-4BF2-88CC-EF5C1202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8FC-742A-4E8C-8D67-4C4EB3E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FF77-75F6-4A0E-8365-D2740F85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E59-957D-49CD-A650-E3DDDA5D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2FE-5940-45ED-A6B1-C822B21C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51E8-3A05-47F7-A7B8-6870ED81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 central data storage 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for Early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ach - STK 9310 “powderhorn” s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each - STK 9840 “eagle” tape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MB/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t BaBar, Cern, R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0 - STK 9840 tape cart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GB/ cart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 Server and Mover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NAL standar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stken_typical_system" descr=""/>
          <p:cNvPicPr/>
          <p:nvPr/>
        </p:nvPicPr>
        <p:blipFill>
          <a:blip r:embed="rId1"/>
          <a:stretch/>
        </p:blipFill>
        <p:spPr>
          <a:xfrm>
            <a:off x="1109520" y="743040"/>
            <a:ext cx="74869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for First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in production (4 TB) for D0 Run II AML/2 tape library: 8MM, DLT dr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K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orking days, working h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data volumes ~1 TB for trial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upgrade lan, network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 to point out bugs and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hardware =&gt; small chance of data l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ion of ease of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can access tape as easily as a native fil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viewable with UNIX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mechanism is similar to the unix cp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: encp infile ou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 myfile.dat     /pnfs/theory/project1/myfile.d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*     /pnfs/theory/project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p      /pnfs/theory/project1/myfile.dat     myfile.da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FS” to name tape files using UNIX like paths, served with NFS 2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s to schedule, configure, man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rs to bridge between network and tape d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5543" t="7445" r="2290" b="1854"/>
          <a:stretch/>
        </p:blipFill>
        <p:spPr>
          <a:xfrm>
            <a:off x="4876920" y="2133720"/>
            <a:ext cx="3511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for Experiments (Clien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Unix Mount command to view the PNFS name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the “encp” product from 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p comman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ellaneous “enstore &lt;command&gt;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file --re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volume [--add | --delete | --restor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tore library [--delete_work --get_queue -priorit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me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upport clustering related files on the same t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grouping primi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assume we can buy a tape robot slot for every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quota in tapes and quotas in “slo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 may have more tapes than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users to generate tapes outside ou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provides tools to do th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tapes to leave our system and be readable with simpl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can make tapes dumpable with c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 on t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by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families” Only files of the same family are on the same ta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amily is just an ascii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 are administered by the experi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ing b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tore closes volume for write when the next file does not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th” associated with a “file family” limits the number of volumes open for  writing, concentrates files on fewer volu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bandwidth into a file family to exceed the bandwidth of a tape dr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 family, width=1 over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0880" y="1260360"/>
          <a:ext cx="8288280" cy="50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60360"/>
                    <a:ext cx="8288280" cy="50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pe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oduction, implementation details are hid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 do not stripe or span vol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detai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s have ANSI VOL1 h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s are file structured as CPIO arch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ile to an archive, one filemark per arch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emove tapes from Enstore and just read them with GNU CPIO (gives a 4GB limit right no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I tapes planned, promised for D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Mass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store “Librari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tapes which are uniform with respec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treatment by the dr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echanism to mount/unmount ta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store system can consist of many “Libraries’ : D0 (ait, mam-1, dlt. Mam-2. Ait-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store system may have diverse robots (STKEN has STK 9310, and ADIC  AML/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tree to name files as you w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tree named as “volume ma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pnfs/&lt;mountpoint&gt;/&lt;ffname&gt;/&lt;volume&gt;/&lt;P-_B_f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information on how new files should be created, which the experiment can admin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dditional information about each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UNIX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using PNFS from DESY. NFS v2 “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all” UNIX Utilities work, ls, 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utility reads/writes fail b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files in a directory is a poor choice “by desig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297180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pw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/pnfs/sam/mammoth/mcc99_2/in2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[$ du  -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67171544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ls   -al   sim.pmc02_in2p3.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rw-r--r--   1 sam      root     250184748 Nov 30 17:25 sim.pmc02_in2p3.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m   sim.pmc02_in2p3.  pythia.qcd_pt20.0_skip5800_mb1.1av_200evts.299_1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m:   sim.pmc02_in2p3  .pythia.qcd_pt20.0_skip5800_mb1.1av_200evts.299_1138: Permission den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$ cat   sim.pmc02_in2p3.pythia.qcd_pt20.0skip5800_mb1.1av_200evts.299_1138   &gt;   /dev/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t: sim.pmc02_in2p3.pythia.qcd_pt20.0_skip5800_mb1.1av_200evts.299_1138: Input/output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defaults for new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“tags” are associated with direc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ed by the “enstore pnfs” comm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ed on “mkdi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tag on initial directory given by ISD 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ered by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4876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petravic@d0enmvr17a in2p3]$ enstore pnfs --tags 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library)  =  samm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)  =  in2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_width)  =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(tag)(file_family_wrapper)  =  cpio_o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: File 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an existing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ed by the “enstore pnfs”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by encp when the file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212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 enstore pnfs --info  sim.pmc02_in2p3.pythia.qcd_pt20.0_10000evts_skip5800_mb1.1av_200evts.299_113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id="94400431100000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="PRF020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_cookie="0000_000005442_0000004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="250184748L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_family="in2p3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_file="/pnfs/sam/mammoth/volmap/in2p3/PRF020/0000_000005442_0000004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encp command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crc : 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data_access_lay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ructured error ms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ephemeral : make a tape for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file_family : override default 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priority : get first claim on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del_pri : get a greater claim if wa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verbose : be chat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ing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may be removed using “rm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scratch tape when  all files on it are rm’ed. [enstore volume --delet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use a recovery utility to restore files up until the time the volume is scratched.  [enstore file --restore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s are recovered to pathname they were creat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ring the Central Enstor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ake mount point(s) for your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-based authentication on the server side for m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meta data is in its own database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the mount point, UNIX file permission ap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your uids/gid’s uniform! (FNAL uniform UID/GI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ermissions apply to the tag files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Share” envisioned, for tape driv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over experiment resources by the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ies implemented for Data Acqui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ck use of resources for the most urgent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upstream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 of your NIC 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scheduling of the staging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throughput to your fil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configu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built for FUE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, IRIX, SunOS, OS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Good Through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low%20on%20a%20computer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025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al Mass 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p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NALU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byte Import and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stkensrv2.fnal.gov/enstor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of interesting monitoring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updates are bat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trans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is up or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ransfers are queu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://stkensrv2/enstore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Status: Green == G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Recent Trans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list to use En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uthorized by the computi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performant disks and comp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“bonnie” and “stream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suitable network conne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“enstore monitor” to mea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use of namespace, file fami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ize UIDs and GIDs if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 the name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ncp to access your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M 3494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IBM 3590 tape dr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TB of staging disk internal t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IBM TBD mover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DDI network, 10 MB/sec to outsid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ly a cache, not a primary data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as a hierarchical store, with tape at the lowest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 are subject to loss should the tape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otas are refunded as tapes are squee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“large fil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D Division office gives an allocation in terms of 10 GB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s are to use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 Envisio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store for experiments large data s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files to/from tape via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fault tolerance -  ensemble reliability of a large tape drive plant, availability sufficient for D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for automated tape libraries and manual ta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names of files in distributed catalog (name spac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 will operate all the tape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ide too much that it is really t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administration and monito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commodity and “data center” tape d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18:42:33Z</dcterms:created>
  <dc:creator>Don Petravick</dc:creator>
  <dc:description/>
  <dc:language>en-US</dc:language>
  <cp:lastModifiedBy>alcorn</cp:lastModifiedBy>
  <cp:lastPrinted>2000-05-23T13:28:54Z</cp:lastPrinted>
  <dcterms:modified xsi:type="dcterms:W3CDTF">2000-06-06T20:12:08Z</dcterms:modified>
  <cp:revision>10</cp:revision>
  <dc:subject/>
  <dc:title>CD central data storage and movement</dc:title>
</cp:coreProperties>
</file>