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0075863" cy="75628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860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7760" y="210168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944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860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7760" y="4589640"/>
            <a:ext cx="27702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9440" y="627120"/>
            <a:ext cx="8604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8360" y="458964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8360" y="2101680"/>
            <a:ext cx="41986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9440" y="4589640"/>
            <a:ext cx="86043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225000" y="7074000"/>
            <a:ext cx="95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C61F-AD6E-4AC2-B72C-9DD57B388442}" type="slidenum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434800" y="339732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632440" y="7099200"/>
            <a:ext cx="58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5/4/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39440" y="2101680"/>
            <a:ext cx="8604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rmilab Mass Sto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nstore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Cache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Michael Zalok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Fermil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71120" y="385920"/>
            <a:ext cx="860580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NT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87320" y="1081080"/>
            <a:ext cx="8639280" cy="58514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8920" y="5578560"/>
            <a:ext cx="255888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al time an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39680" y="139680"/>
            <a:ext cx="1592280" cy="781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8302680" y="139680"/>
            <a:ext cx="1592280" cy="781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97000" y="1557360"/>
            <a:ext cx="2855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ient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70040" y="2025720"/>
            <a:ext cx="1440" cy="49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606760" y="5335200"/>
            <a:ext cx="904680" cy="57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65360" y="6337440"/>
            <a:ext cx="502632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pe &amp; driv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HG Mincho Light J;MS Gothic;HG "/>
              </a:rPr>
              <a:t>Current T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HG Mincho Light J;MS Gothic;HG "/>
              </a:rPr>
              <a:t>Instantaneous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8005680" y="6000840"/>
            <a:ext cx="180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7098840" y="6076440"/>
            <a:ext cx="76860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y the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r Data on Tap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6 Peta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umber of files on tap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0.8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umber of volu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~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ne Day Transfer Re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7 Tera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286840" y="230040"/>
            <a:ext cx="1592280" cy="781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08000" y="123840"/>
            <a:ext cx="1592280" cy="7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1120" y="218880"/>
            <a:ext cx="8605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erformance: 27T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66840" y="1981080"/>
            <a:ext cx="9423360" cy="5099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286840" y="230040"/>
            <a:ext cx="1592280" cy="781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39680" y="169920"/>
            <a:ext cx="1592280" cy="780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903400" y="1058760"/>
            <a:ext cx="4135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wo days of record transfer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1760" y="1498680"/>
            <a:ext cx="5548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MS Service Challenge in March (In r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77240" y="1498680"/>
            <a:ext cx="2662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rmal 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81120" y="1860480"/>
            <a:ext cx="358920" cy="149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7286400" y="1890720"/>
            <a:ext cx="471240" cy="250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774600" y="1376280"/>
            <a:ext cx="2032200" cy="137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ust because the file transferred without error, does not guarantee that everything is f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th Fermilab's load we see bit error corrup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rs will push the system to its lim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cord 27TB transfer days were not even noticed for three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ust having a lot of logs, alarms and plots is not enough.  They must also be interpre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286840" y="230040"/>
            <a:ext cx="1592280" cy="781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71360" y="154080"/>
            <a:ext cx="1592280" cy="7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Cac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ks on top of Enstore or as standalone configu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ides a buffer between the user and ta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mproves performance for 'popular' files by avoiding the need of reading from tape every time a file is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cales as nodes (and disks) are ad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993000" y="189000"/>
            <a:ext cx="2930400" cy="1438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66760" y="158760"/>
            <a:ext cx="2930400" cy="14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3600" y="235080"/>
            <a:ext cx="86058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ser Access to Data in dCac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280" y="1149120"/>
            <a:ext cx="8605800" cy="62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rm – storage resource mana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rm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ridf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lobus_url_c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erberizedf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akf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cap – native dCach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c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get, web bro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1240" y="112680"/>
            <a:ext cx="2152440" cy="1055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7773840" y="142920"/>
            <a:ext cx="2152800" cy="105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Cache Deplo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dministrative 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nitoring 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or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trol channel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ol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ta channel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~100 pool nodes with ~225 Terabytes of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1240" y="112680"/>
            <a:ext cx="2152440" cy="1055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696080" y="173160"/>
            <a:ext cx="2152800" cy="105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39440" y="430200"/>
            <a:ext cx="860580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Cache 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76280" y="1598760"/>
            <a:ext cx="9150480" cy="4138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886200" y="5830920"/>
            <a:ext cx="3462480" cy="1616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flipH="1">
            <a:off x="5164200" y="5019840"/>
            <a:ext cx="3233520" cy="101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11240" y="112680"/>
            <a:ext cx="2152440" cy="1055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7728120" y="158760"/>
            <a:ext cx="2152440" cy="1055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33280" y="6168960"/>
            <a:ext cx="354348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cord transfer day of 60GB.  This is for just one dCache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373040" y="2266920"/>
            <a:ext cx="671760" cy="390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 the XFS filesystem on the pool dis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 direct I/O when accessing the files on the local dCac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rs will push the system to its limits.  Be prepa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1240" y="112680"/>
            <a:ext cx="2152440" cy="1055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7728120" y="142920"/>
            <a:ext cx="2152440" cy="105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39440" y="582120"/>
            <a:ext cx="860580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orage Resource 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39440" y="1693440"/>
            <a:ext cx="8605800" cy="55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ides uniform interface for access to multiple storage systems via SRM protoc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RM is a broker that works on top of other storage 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Ca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ns as a server within the dCa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IX</a:t>
            </a:r>
            <a:r>
              <a:rPr b="0" lang="en-GB" sz="2200" spc="-1" strike="noStrike" baseline="33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ile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nda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st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745400" y="90360"/>
            <a:ext cx="2246400" cy="878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82440" y="90360"/>
            <a:ext cx="2246400" cy="87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are the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53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st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-house, manages files, tape volumes, tape libr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d-user direct interface to files on t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Ca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oint DESY and Fermilab, disk caching front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d user interface to read cached files, write files to enstore indirectly via d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vides a consistent interface to underlying storage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MS Service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50 MB/s sustained transfer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om CERN, though the dCache to tape in En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 top of normal daily usage of 200 to 400 MB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ate throttled to 50 MB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700 MB/s sustained transfer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om CERN to dCache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745400" y="90360"/>
            <a:ext cx="2246400" cy="878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98280" y="136440"/>
            <a:ext cx="2246400" cy="87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vai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dular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ata Integ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it errors detected from sc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341960" y="2050920"/>
            <a:ext cx="3085920" cy="1395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481120" y="6456240"/>
            <a:ext cx="5462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equirements are achiev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39440" y="1707840"/>
            <a:ext cx="860580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3 production systems of Enst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un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one el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NOS, MiniBooNE, SDSS, CMS, et. 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3 production systems of dCache and S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D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veryone 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148440" y="2828880"/>
            <a:ext cx="251280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027760" y="5767560"/>
            <a:ext cx="1589040" cy="779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738840" y="5548320"/>
            <a:ext cx="2719440" cy="106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vai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ata Integ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430200"/>
            <a:ext cx="860580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N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280" y="1663560"/>
            <a:ext cx="86058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ides a hierarchical namespace for users' files in Enst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nages file meta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oks like an NFS mounted file system from user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nds for “Perfectly Normal File System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ritten at DE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nstor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51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vided into a number of server pro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calability is achieved by spreading these servers across multiple no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a node goes down, we can modify the configuration to run that nodes servers on a different node.  This increases availability while the broken node is fix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store User Interface: en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milar to standard UNIX cp(1) com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ncp /data/myfile1 /pnfs/myexperiment/myfil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448400" y="228600"/>
            <a:ext cx="2432160" cy="1192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44360" y="139680"/>
            <a:ext cx="2432160" cy="119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280" y="385560"/>
            <a:ext cx="8605800" cy="73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6960" y="1466640"/>
            <a:ext cx="8605800" cy="59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ob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 StorageTek Powderhorn Si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 ADIC AML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pe Dri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TO: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TO2: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9940: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9940B: 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LT (4000 &amp; 8000):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27 commodity Linux P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101000" y="1270080"/>
            <a:ext cx="2668320" cy="2730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099200" y="4141800"/>
            <a:ext cx="2670120" cy="2722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8286840" y="230040"/>
            <a:ext cx="1592280" cy="781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155520" y="154080"/>
            <a:ext cx="1592280" cy="7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nstore Monito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580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b pages for current server stat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on Jo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lots for resource u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umber of tapes wr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umber of tape drive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umber of m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02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much mor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tv (ENstore T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175600" y="2235240"/>
            <a:ext cx="255600" cy="247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596440" y="2249640"/>
            <a:ext cx="255600" cy="247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7769160" y="2249640"/>
            <a:ext cx="255600" cy="247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8286840" y="230040"/>
            <a:ext cx="1592280" cy="781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185760" y="184320"/>
            <a:ext cx="1592280" cy="7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9440" y="174240"/>
            <a:ext cx="86058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nstore Monitoring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71680" y="1087560"/>
            <a:ext cx="7159680" cy="5014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318520" y="184320"/>
            <a:ext cx="1592280" cy="780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39680" y="139680"/>
            <a:ext cx="1592280" cy="781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62000" y="6562800"/>
            <a:ext cx="2855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3440" y="6168960"/>
            <a:ext cx="7507080" cy="12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X-Axis is time since January 1</a:t>
            </a:r>
            <a:r>
              <a:rPr b="0" lang="en-GB" sz="2000" spc="-1" strike="noStrike" baseline="33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2005 until pre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Y-Axis is number of gigabytes wri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cludes summary of tapes written in last month and we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